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1A7-FBA5-4978-907F-698D25D0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74D-C6E0-4D5D-86B7-2FEC3229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8F53A-7197-44C3-83CB-735DD870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B953C-4CD6-4B22-9AD3-1FDA9DE5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85DAE-173A-4349-A97A-6A7C9EBB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EC2CC-4847-44F1-BC7F-60F650AF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DA373-AD88-487C-8AC7-F3C8CA7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09F14-97A4-4A98-8F05-3AA5370D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A0F49-B240-4D6A-87FF-98657249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7CE51-6CA3-4B15-B9F0-81D66F5A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7D7C9-7BC5-4534-80D0-8C9E8E2F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221C4-9C29-4607-99BB-BFB92C28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FC7-73F8-41EA-A0D7-D0620C68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25F54-C3D6-427A-872F-C82FD608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1112A-95D4-40A8-81B6-6C93E9AE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FCA47-F751-4F4C-8513-7F7AB9D4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127DD-A772-4037-98E3-B644975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4E5F7-4173-4F81-911A-86BA7832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A0583-16B3-4B48-B6A5-EA3BC7C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4675E-5E2B-478C-987A-6E2C0234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5DAA9-355E-425D-8ACB-FFC4908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71049-9B38-4CB0-AED6-EBDFFBEC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78BA2-DCAD-4CEF-A5BA-B3B91AE2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5C9-AFCD-4DBA-A0A0-72901CB9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A6B99-9111-4BD6-BABB-4B46CDC7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2EE0C-4F7B-44C6-B0FF-44D72784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9827A-ABFF-4555-9846-5A09ED48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5B205-A826-4212-BED1-A049096B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CB095-60B0-4402-9486-3B69F087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7395D-0001-44DF-ADFE-E4843C0D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A9B52-2143-4E55-9846-87AFC886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1295E-CF39-4BFA-A32E-38EC485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921EE-304E-4DF5-AE19-7C792D9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1BA18-0613-4160-8B60-EFE0DA1F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56BF-056C-43C8-953D-B62AF9CA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5C3EC-6228-4F24-995D-503B18C0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C6CE0-80F5-4B01-8653-25D80813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349DE-E473-4404-8171-C6D50DDC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A8DBE-CF7B-451C-ABF3-DA63AE2E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4A0D4-FA34-4489-B4BB-53824664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54BE1-6605-46E2-8B8A-6948E525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9932C-C396-4FEC-98B8-FA63DD8F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049CF-8CB8-489F-B4A4-F6300C8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53678-6914-4FA5-A6EA-A820DD3E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178F8-5954-4819-8D60-29231565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899F-4036-487E-8229-FD283625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B4EF7-E492-4690-AA01-2E7199B0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A7529-55B9-409E-B320-1897A39E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BDEED-25CD-4105-9600-B51B8A13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761EA-FE6C-470A-966E-14AB813D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9A3D6-9106-4EA2-B46E-E0BF22C6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5551B-25B9-4D86-BCCA-F0005EB5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6338B-3221-4DD4-986D-F903BA2E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F4AF9-F4EB-419B-B1FD-73442665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14D3C-5BFE-4193-8B82-17395C77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071BC-0210-42D9-9F93-4B442424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EE3B-510E-4A26-940B-7CF9A0B6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D4F50-8AAC-4C41-AE54-9A90FCD6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DF38D-D527-4C8B-9055-A0BA18E9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C4830-BCEB-4860-A19B-1DC38BB1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1AC9B-D451-4AA3-A190-8357D08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D9DCA-3916-4A44-B3E3-71CC4277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10AC8-6D4E-4936-BF61-3D0DFA29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69000-E556-4B25-8B4B-B94D801B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3E054-D9A8-46B1-AE47-6B7BC48A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9CACF-F73D-4E50-B33D-B66FC705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7084C3-C8B4-4580-93A9-8CE3B4B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E0BA-6B67-469F-A116-7F20EDE6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6CA9E-81A4-4696-9B38-32685F75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52283-F606-4E37-80FC-CB662EA8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1DF19-4BEC-4368-B4E7-FCFB45C0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AF3C0-7F4B-461B-B4DC-CB89A0D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3B6FB-F621-4803-9772-AD77FB67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62932-1D05-46F3-919C-A29185E1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539B4-ED75-4F82-B04C-5516E8B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2CDDE-5B81-442D-BC15-34D214B2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AE1AA-C033-4A15-97EB-45D38204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7C58B-0444-48DF-BA50-A5DE42E8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1715-B47D-4F7B-A0BD-06A089DA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460F1-8B05-4A10-B83B-DDF1EAF2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CBB93-7E02-4FDD-BB69-F7C53E39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CF07A-0DB1-40E5-BBC0-800C3FFB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73A97-C7DB-4DED-8A08-86B75105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0FFDF-E034-4A7E-84A4-4B3846D5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D46A0-8B67-42AC-BAE6-078A815C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0A403-423D-496D-9E48-B92F84D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7B651-6EEF-4240-BB29-7F6DCDAF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99AD3-90F8-40D1-898D-9BF01F4A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55EEC-D58E-41DF-AE59-733BC50B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2BE1-E51B-4BBB-A243-9A493F14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35250-F00B-46F6-8842-F8158FF3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73A52-0C64-47B0-9EEA-F3C8C0FA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984818-925D-4A98-BEC7-8FC631E9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8D083-8B71-42E4-BE07-66864D52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F87D9-2967-4535-BE4E-AAC658D8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80316-0537-4224-93F8-1C4B679C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C2E93-1BCD-4A34-B40A-BC66B90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7352E-5C05-436B-A3BB-2709235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5BECB-182B-426C-AFA2-78ED21E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F6493-E1A6-4E5D-99FC-311D506F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44D5-1D0A-43CD-BC2A-45F25E5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25B26-84DD-45EF-A799-E2AF34D6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19C4B-527F-4787-AF0B-2AD0BCC7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5C9954-02FF-4F41-ABAE-619FA1FA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462CB-7C1A-4491-9030-08737BF9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55321-F37D-4455-81BB-10B93CD1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F656E-9E17-4F05-9899-D64109B6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EF942-E6C4-4CD4-88E3-A6839DEF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B15C6-4061-4922-892F-1A1C3980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36AE7-5269-4C5D-81E6-7C34CFDA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57E2B-E2B4-4202-B56A-C179EE5A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C41-3809-4A08-97B9-0993FBF5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622C-E791-4B88-912C-CEF82930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7456D-1BCB-462E-AA10-AF3537EA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6FAA25-3381-4132-B606-9008573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F020B-B244-424B-A58D-C83F8E0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092FE-1BDD-484F-89CB-FAC360DF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F1AAD-7ECD-4396-95B8-37367808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C03E-CFD2-41D4-BCBB-58A817F8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F24A-A205-442D-A525-169880EC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B79E-ABD0-45D3-8205-22BB58F1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758D-DD43-48C8-BF1E-C8E1CFB4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D97C-E196-429D-8A39-565EC935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CD58-006D-432C-9D2A-2786CB2D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C9CC-73E6-4DB5-B170-FEF7375F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1E83F-C987-4B09-BC32-F691786C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6590-9E16-48FD-B222-CED4477F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879-0683-499C-9B19-1D333728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372F-A320-40C6-BA6D-2F27D4C1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8587-F89A-4097-B373-DBC2D823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429A-2E9D-4FDB-863D-BB818A43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A349-71F5-40DA-8499-0A5D8E65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A399-0C36-4FC8-A9BD-6BAD997A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C01A-8E81-49E6-B7A0-E324664D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597A-DC9C-432B-AF90-BF7F3720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1677F-F812-4C84-9C7E-32100522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5DD4-EE60-4D92-A92B-33EAABF4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E0DC6-D589-4484-900E-D3661F0A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723-A0BC-4F3F-86D4-1338C401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9B45-F6AD-4F0F-9972-A807C269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093E2-CB1D-4034-B12E-D4AD1D88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B46EF-53D6-4924-999C-A44A37AD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9253-53B7-4869-B4EE-1F461468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BF45B-53C8-4D02-A06D-518BC8B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01C3-0570-4A12-9245-DA553F1D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EDB1-5CA5-4442-9AD0-E2A388EF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3A7E6-BF7E-43F3-81F7-88B89426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84E3-D328-4FAD-BE02-BBD18592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1499C-7B19-44DB-886B-42E44575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988-6D26-4B10-9D75-966D9D73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812CB-FE5F-4EB3-8ADC-89588090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1DA88-68C1-4682-B3B7-79295C3D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6BA4-2B3B-4B5A-8B7F-A0AD7E2F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D72C5-2255-492E-8585-A5549F3D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5A9D9-7C05-45A5-BCC1-1724AB0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8313-FF98-43E1-BDD6-F88D0865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1C699-4AFD-4C76-906F-6BF9C27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59E2D-03CB-4996-97C4-AF4430F7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72F1B-5071-4368-B262-4A6BC768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294D-61D6-4C8F-8780-815F28BD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40E-995C-44E7-96B5-6824ABD8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864B-D19E-4763-AA10-2D6D18E2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4C436-DADF-48A5-AB70-3F609AE7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A77D-6977-4BE8-A327-11A5109C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C2E93-12B2-4356-8D4A-B9F6CEF5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29655-CF3A-468F-8208-C370C5B0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8F36-E0D7-4C8D-A1F0-776D973F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8E6B5-FDB2-4526-8448-D1A9B3BA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E2561-E867-4AAB-9C61-589B69DF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B2BB3-10B5-42F6-858C-2B3767BB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E745-AEF8-4B0F-BC21-6D94E639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6D3-D609-4466-BFF8-CC24F9B6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CDDD6-293D-4C45-8F3D-EC6B2687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40FA3-78C0-46B7-8B94-B85266C2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E304D-47B9-43BD-8585-9F4E7D82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512C4-D202-470C-B3EC-EC71195A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95097-25A0-43CA-B1D5-1A709D83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8C7AB-6020-4922-801A-1C626B79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127B-48A0-4BDC-8278-52C9B02F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7F64D-5B50-45E1-8AF1-9437C5B6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EF960-4531-4779-A50D-5F9590F2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B0C30-E3C5-435F-B6ED-A0DF5D5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56F-82AE-4ECE-B2EC-55420CDB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F5C49-FF16-48E9-A14E-8B35DFF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BA555-A78C-4769-B090-B4EA3181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58D1-678F-4A05-8B2E-6F5865C2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15FBA-226F-43FA-A217-EB37F374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6348B-F724-42D6-AD33-094D3B1F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FAE11-2D27-4687-BB84-62A9433C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01019-5C0A-404F-89A9-9F5098DD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0ECE8-2358-4AAE-938B-93F9E409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7ECFB-C5B3-42B2-92F4-6D552222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36F3D-34B1-47FC-9FD4-16E63F91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2EA-D6E2-498C-AEF5-4E647566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83A6A-00C4-4355-B6FC-FB0A5463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850A5-225F-4BDD-B42B-7786604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E436-2BA9-4E63-8538-80F97D1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2CA3C-5D95-4CCF-A283-3F5520B8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51D03-D5D2-4CB8-9542-E0F4C602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D0E14-C910-48DC-8892-5FBD4813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51D20-F05F-4326-AC95-5B1E33B7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534AB-A7B4-4004-ACF1-F135D047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4F42C-1E9B-427A-A180-AD14EAAA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CCDAD-955A-4DB6-89D4-71D7CACF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D4267-214B-4F4A-9A7E-8413672CA56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F3944-C52A-4644-955A-8CC5257351F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2E9F8-8724-414A-8B53-FAC3EF6EE3A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38B97-4565-459D-9090-0B589E65E65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AC7E5-682A-4BDC-98CC-B258D745104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1AAE4-B226-442C-8F83-EDB72CBB465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75E2F-BBE7-4944-A02E-F6E76125FF7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4EC6D-50E0-4F40-8B92-2C73919C2FA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90342-E4F7-41E0-A385-60CB3FF43F8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35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D14AD-A23D-4222-B259-50A9F11CA91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88A66-4FFB-4D58-B96A-4CAD31C1912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65642-1CEE-42F6-920B-49492C8C79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307C6-02C2-44C1-8508-06BC6A9C1B6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96444-9169-4F58-9651-A3E31577826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259AF-A807-4A01-A009-AB772C2C7AC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D9D8A-4E77-4B9A-8A8E-B2CEFD2E8B1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56888-BC25-4C53-8D00-2967C636AF0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Century Gothic"/>
              </a:rPr>
              <a:t>HOUSES AND THE CONCEPT OF HOME FOR THE BRITISH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pared by Group 2 (Olga Domnina, Anton Goncharov, Maria Kulaeva,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Daria Kurokhtina, Maria Mishakova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own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y often have three or more floors, including a basement or semi-basemen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re is great variety regarding both design and us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lthough they are usually terraced, those that are well-preserved and in a 'good' area may be thought </a:t>
            </a:r>
            <a:r>
              <a:rPr b="0" i="1" lang="en-US" sz="1800" spc="-1" strike="noStrike">
                <a:solidFill>
                  <a:srgbClr val="404040"/>
                </a:solidFill>
                <a:latin typeface="Century Gothic"/>
              </a:rPr>
              <a:t>highly desirable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ny have been broken up into flats or rooms for rent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wo types: 'self-contained flats’ or ' bedsits'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lf-contained’ flats have washing and cooking facilitie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dsits'  i.e. bed-sitting rooms ; residents have one room to themselves and share washing and cooking facilities with other reside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flat – the least desirable home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5" name="Рисунок 1" descr=""/>
          <p:cNvPicPr/>
          <p:nvPr/>
        </p:nvPicPr>
        <p:blipFill>
          <a:blip r:embed="rId1"/>
          <a:stretch/>
        </p:blipFill>
        <p:spPr>
          <a:xfrm>
            <a:off x="2801880" y="2298600"/>
            <a:ext cx="3213000" cy="416736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3" descr=""/>
          <p:cNvPicPr/>
          <p:nvPr/>
        </p:nvPicPr>
        <p:blipFill>
          <a:blip r:embed="rId2"/>
          <a:stretch/>
        </p:blipFill>
        <p:spPr>
          <a:xfrm>
            <a:off x="7074000" y="2298600"/>
            <a:ext cx="30495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Block of flat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Located far beyond the city centre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Residential building consisting of apartment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oncrete is the most common building material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n walls with extremely poor soundproofing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elevator is accommodated due to number of floor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side the Houses and Flats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0" name="Содержимое 4" descr="http://3.bp.blogspot.com/-CL4cD0wVXtw/UZTGXNlMctI/AAAAAAAAAF0/VzfcVhiiiEI/s640/furniture.png"/>
          <p:cNvPicPr/>
          <p:nvPr/>
        </p:nvPicPr>
        <p:blipFill>
          <a:blip r:embed="rId1"/>
          <a:srcRect l="0" t="0" r="0" b="9850"/>
          <a:stretch/>
        </p:blipFill>
        <p:spPr>
          <a:xfrm>
            <a:off x="2589120" y="2340000"/>
            <a:ext cx="4313160" cy="3171960"/>
          </a:xfrm>
          <a:prstGeom prst="rect">
            <a:avLst/>
          </a:prstGeom>
          <a:ln w="0">
            <a:noFill/>
          </a:ln>
        </p:spPr>
      </p:pic>
      <p:pic>
        <p:nvPicPr>
          <p:cNvPr id="1211" name="Содержимое 5" descr="https://fs00.infourok.ru/images/doc/201/229673/img4.jpg"/>
          <p:cNvPicPr/>
          <p:nvPr/>
        </p:nvPicPr>
        <p:blipFill>
          <a:blip r:embed="rId2"/>
          <a:stretch/>
        </p:blipFill>
        <p:spPr>
          <a:xfrm>
            <a:off x="7167600" y="2332080"/>
            <a:ext cx="4287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side the Houses and Fla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ouses and flats are described in terms of numbers of bedrooms, e.g. a two-bedroom flat or a four-bedroom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 two-floor houses living room and kitchen are downstairs, bedrooms and bathroom are upstair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hildren usually have their own bedroom or may share a room with a brother or sister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re could be a basement – a part of a building consisting of rooms that are partly or completely below the level of the groun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studio is a small flat designed to be lived in by one or two people. It usually has one large room for sleeping and living in, a bathroom and possibly a small separate kitchen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few facts about 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owning and ren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desire to own the place where you live is almost universal in Britai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ouse prices are high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bout 70% of all the houses in the country are occupied by their owners and almost all of these were bought with a mortgag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alf of these are owned by people who have borrowed 80% (or even more) of their price and are now paying this money back month by month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normal arrangement is for the borrower to pay back the money over a period of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wenty to twenty-five year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fore the end of the 20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century, most working-class people lived in rented accommodatio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Picture 2" descr=""/>
          <p:cNvPicPr/>
          <p:nvPr/>
        </p:nvPicPr>
        <p:blipFill>
          <a:blip r:embed="rId1"/>
          <a:stretch/>
        </p:blipFill>
        <p:spPr>
          <a:xfrm>
            <a:off x="2343240" y="1042920"/>
            <a:ext cx="7245360" cy="434520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1"/>
          <p:cNvSpPr/>
          <p:nvPr/>
        </p:nvSpPr>
        <p:spPr>
          <a:xfrm>
            <a:off x="3630600" y="5643720"/>
            <a:ext cx="46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ource: General Household Survey(989-90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262626"/>
                </a:solidFill>
                <a:latin typeface="Century Gothic"/>
              </a:rPr>
              <a:t>Cost of Houses</a:t>
            </a:r>
            <a:r>
              <a:rPr b="0" lang="en-US" sz="2300" spc="-1" strike="noStrike">
                <a:solidFill>
                  <a:srgbClr val="262626"/>
                </a:solidFill>
                <a:latin typeface="Century Gothic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A big problem in England is the rising cost of houses. 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1989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first-time buyers paid an average of around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40,000,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2001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this had more than doubled to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85,000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and in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2006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to </a:t>
            </a:r>
            <a:r>
              <a:rPr b="1" lang="en-US" sz="1800" spc="-1" strike="noStrike">
                <a:solidFill>
                  <a:srgbClr val="262626"/>
                </a:solidFill>
                <a:latin typeface="Century Gothic"/>
              </a:rPr>
              <a:t>£151,565.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2263320" y="2133360"/>
            <a:ext cx="4638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003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wage per year: £20,000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house price: over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£120,000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ost of Houses in 2005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verage Cost: £182,920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tached: £282,15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mi-detached: £169,074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erraced: £139,12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lat: £168,57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6945480" y="2125440"/>
            <a:ext cx="4559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200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wage per year: £23,244 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verage house price: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£184,924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ost of Houses in 2007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verage Cost: £184,924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etached: £285,697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mi-detached: £170,650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erraced: £143,512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lat: £174,052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ypes of hou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detached house – the most desira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semi-detached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erraced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own ho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lock of flats – the least desirab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references of the British are determined by their desire for privacy and the importance attached to ownership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detached house – the most desirable home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1" name="Picture 2" descr="Картинки по запросу detached house перевод"/>
          <p:cNvPicPr/>
          <p:nvPr/>
        </p:nvPicPr>
        <p:blipFill>
          <a:blip r:embed="rId1"/>
          <a:stretch/>
        </p:blipFill>
        <p:spPr>
          <a:xfrm>
            <a:off x="2714760" y="2828880"/>
            <a:ext cx="3733560" cy="249876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8" descr="Картинки по запросу detached house"/>
          <p:cNvPicPr/>
          <p:nvPr/>
        </p:nvPicPr>
        <p:blipFill>
          <a:blip r:embed="rId2"/>
          <a:stretch/>
        </p:blipFill>
        <p:spPr>
          <a:xfrm>
            <a:off x="6724800" y="2828880"/>
            <a:ext cx="33350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etach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raditional building materials are used: brick for walls and slate for the roo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rregular, “non-classical” shape with all those little corners, making the house feel “cozy”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large front garden with trees and bushes, evoking not only the countryside but also giving greater privac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garage is hidden away so that it is not too obvious and doesn’t spoil the rural feel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 front door cannot be easily seen from the stree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oo expensive for most peop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semi-detached house – the second best for the British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7" name="Picture 6" descr=""/>
          <p:cNvPicPr/>
          <p:nvPr/>
        </p:nvPicPr>
        <p:blipFill>
          <a:blip r:embed="rId1"/>
          <a:stretch/>
        </p:blipFill>
        <p:spPr>
          <a:xfrm>
            <a:off x="2592360" y="2533680"/>
            <a:ext cx="3681360" cy="27576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8" descr="Картинки по запросу semi-detached house"/>
          <p:cNvPicPr/>
          <p:nvPr/>
        </p:nvPicPr>
        <p:blipFill>
          <a:blip r:embed="rId2"/>
          <a:stretch/>
        </p:blipFill>
        <p:spPr>
          <a:xfrm>
            <a:off x="6669000" y="2533680"/>
            <a:ext cx="41436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Semi-detach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One building with two separate household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ach house is the mirror of the other, both inside and outsid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be found in the suburbs of cities and the outskirts of towns all over Britai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ach house has a separate front garde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t the sides, there is access to the back, where two separate gardens can also be foun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rick is the most common building materia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 typical demi-detached house has two floors and three bedroo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terraced hou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3" name="Рисунок 2" descr=""/>
          <p:cNvPicPr/>
          <p:nvPr/>
        </p:nvPicPr>
        <p:blipFill>
          <a:blip r:embed="rId1"/>
          <a:stretch/>
        </p:blipFill>
        <p:spPr>
          <a:xfrm>
            <a:off x="2592360" y="1793880"/>
            <a:ext cx="4309920" cy="3319560"/>
          </a:xfrm>
          <a:prstGeom prst="rect">
            <a:avLst/>
          </a:prstGeom>
          <a:ln w="0">
            <a:noFill/>
          </a:ln>
        </p:spPr>
      </p:pic>
      <p:pic>
        <p:nvPicPr>
          <p:cNvPr id="1194" name="Рисунок 4" descr=""/>
          <p:cNvPicPr/>
          <p:nvPr/>
        </p:nvPicPr>
        <p:blipFill>
          <a:blip r:embed="rId2"/>
          <a:stretch/>
        </p:blipFill>
        <p:spPr>
          <a:xfrm>
            <a:off x="7066080" y="1793880"/>
            <a:ext cx="42544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erraced houses: main featur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2589120" y="2133360"/>
            <a:ext cx="8747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two shared (party) walls except for end-of-terrace house unit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ndividual front doors and pedestrian access to dwellings, either directly off the street or from shared driveways or accessway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typically one to four storey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they can be converted into flats or remain as individual house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ar parking is accommodated within the house (integral garage), in-curtilage(within shared access) or on stree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a private rear garden or patio and a front entrance area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onsistency in front façade design, building line and skyline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clearly defined fronts and backs with fronts addressing public streets, spaces or accessways. Backs are contained to the rear, and are usually back-to-back in a perimeter block arrangement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          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 town hou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AutoShape 6"/>
          <p:cNvSpPr/>
          <p:nvPr/>
        </p:nvSpPr>
        <p:spPr>
          <a:xfrm>
            <a:off x="2124000" y="3046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Рисунок 1" descr=""/>
          <p:cNvPicPr/>
          <p:nvPr/>
        </p:nvPicPr>
        <p:blipFill>
          <a:blip r:embed="rId1"/>
          <a:stretch/>
        </p:blipFill>
        <p:spPr>
          <a:xfrm>
            <a:off x="987480" y="2251080"/>
            <a:ext cx="4695840" cy="3130560"/>
          </a:xfrm>
          <a:prstGeom prst="rect">
            <a:avLst/>
          </a:prstGeom>
          <a:ln w="0">
            <a:noFill/>
          </a:ln>
        </p:spPr>
      </p:pic>
      <p:pic>
        <p:nvPicPr>
          <p:cNvPr id="1200" name="Рисунок 2" descr=""/>
          <p:cNvPicPr/>
          <p:nvPr/>
        </p:nvPicPr>
        <p:blipFill>
          <a:blip r:embed="rId2"/>
          <a:stretch/>
        </p:blipFill>
        <p:spPr>
          <a:xfrm>
            <a:off x="6161040" y="2251080"/>
            <a:ext cx="46706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3T06:19:07Z</dcterms:created>
  <dc:creator>Kurokhtina, Daria</dc:creator>
  <dc:description/>
  <dc:language>en-US</dc:language>
  <cp:lastModifiedBy>Kurokhtina, Daria</cp:lastModifiedBy>
  <dcterms:modified xsi:type="dcterms:W3CDTF">2017-03-29T12:37:52Z</dcterms:modified>
  <cp:revision>25</cp:revision>
  <dc:subject/>
  <dc:title>HOUSES AND THE CONCEPT OF HOME FOR THE BRITISH</dc:title>
</cp:coreProperties>
</file>